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3FCC-EC0F-41D0-ADEB-169DBB0F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1883-0148-4F95-A610-D6897B99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74EF-52FE-4B23-B74B-E8B026D9F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DD0B-FB86-400D-B009-A0236B808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27EB-D2D9-4197-B69C-AFEB9E97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B927-A5E8-4BB0-90B6-5159E26D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8D4C-6845-45F5-90DC-6BFDA357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477C-E7DF-4677-B647-559B7DBB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19F5-9076-4025-94C6-0BB54699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AD89-0A4D-4728-A3CD-23919CBC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11B1-BC82-4CF8-BD59-FBB6D57D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AD6B-05F8-45F4-A991-9DC77FC1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B443-C86E-4FFB-845F-EB40292903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857240" y="428760"/>
            <a:ext cx="5643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Почему Юпитер, Сатурн, Нептун  и Уран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называются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ланетами – гигантами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714760" y="3357720"/>
            <a:ext cx="415116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358200" y="285840"/>
            <a:ext cx="130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357120" y="1000080"/>
            <a:ext cx="850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ознакомиться  с общими характеристиками планет-гига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366480" y="2000160"/>
            <a:ext cx="17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14200" y="2071800"/>
            <a:ext cx="8358480" cy="35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Ознакомиться с объектами звёздного не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Формирование понятий об основных физических характеристиках планет-гига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5" descr="фотоЮ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3"/>
          <p:cNvSpPr/>
          <p:nvPr/>
        </p:nvSpPr>
        <p:spPr>
          <a:xfrm>
            <a:off x="428760" y="214200"/>
            <a:ext cx="507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Планета - гигант – Юпите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4572000" y="560520"/>
            <a:ext cx="4572000" cy="62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Calibri"/>
              </a:rPr>
              <a:t>Юпитер - самая крупная из всех планет солнечной системы. Он находится от Солнца на расстоянии в 5 раз дальше, чем Земля, и проходит свой путь вокруг Солнца за 12 лет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Calibri"/>
              </a:rPr>
              <a:t>Диаметр Юпитера в 11 раз больше Земли, а по объему из Юпитера можно было бы сделать 1345 таких шаров, как Земл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2" descr="сатур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374400" y="357120"/>
            <a:ext cx="389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Планета Сатур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214200" y="4179960"/>
            <a:ext cx="5643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Эта планета давно привлекает взоры астрономов всего мира своим необычным видом. На сплюснутый шар "надето" яркое, очень большое кольц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4857840" y="285840"/>
            <a:ext cx="46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Сатурн - вторая из планет-гигант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фотУ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220320" y="214200"/>
            <a:ext cx="43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Планета-гигант УРА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928800" y="1714680"/>
            <a:ext cx="821520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На расстоянии в 19 раз большем от Солнца, чем Земля  медленно движется по своей орбите Уран. Назван он так в честь древнеримского бога неб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Эта планета так далеко от Земли, что разглядеть что-нибудь на ее поверхности невозможн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фот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313560" y="428760"/>
            <a:ext cx="519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Планета-гигант Непту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4286160" y="2000160"/>
            <a:ext cx="45720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Четвертая планета, принадлежащая к планетам - гигантам, это планета Нептун, названная в честь римского бога мор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Эта планета была открыта французским астрономом Леверье в 1846 год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285840" y="1214280"/>
            <a:ext cx="857232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Планеты-гиганты:   Юпитер, Сатурн, Уран и Нептун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По сравнению с Землей это действительно гиганты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Но даже самая большая планета– Юпитер – в 1 000 раз легче Солнца. 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361440" y="357120"/>
            <a:ext cx="216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ВЫВОД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428760" y="785880"/>
            <a:ext cx="8286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Работу выполнили группа историков 6 в класса</a:t>
            </a: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Михайлов Ива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Сорокина Кс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Сидоров Никола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8T14:59:55Z</dcterms:created>
  <dc:creator>SamLab.ws</dc:creator>
  <dc:description/>
  <dc:language>en-US</dc:language>
  <cp:lastModifiedBy>SamLab.ws</cp:lastModifiedBy>
  <dcterms:modified xsi:type="dcterms:W3CDTF">2011-05-28T15:32:32Z</dcterms:modified>
  <cp:revision>4</cp:revision>
  <dc:subject/>
  <dc:title>Слайд 1</dc:title>
</cp:coreProperties>
</file>